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FD72-4660-479E-8EDA-B7F868711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8278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99640" y="4161960"/>
            <a:ext cx="8278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C17A-AB5E-41D8-8080-5D0F3BC13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1880" y="198432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99640" y="416196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1880" y="416196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FBB6-74B5-4387-8C8D-003894BF4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26654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8640" y="1984320"/>
            <a:ext cx="26654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8000" y="1984320"/>
            <a:ext cx="26654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99640" y="4161960"/>
            <a:ext cx="26654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8640" y="4161960"/>
            <a:ext cx="26654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8000" y="4161960"/>
            <a:ext cx="26654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C3F7-358E-46DF-8C80-AA49F7A5A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99640" y="1984320"/>
            <a:ext cx="82789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FBDA-34ED-4396-A447-66543DD88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82789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D144-6FC0-4B77-9CC7-599396783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40399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1880" y="1984320"/>
            <a:ext cx="40399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B63D-BED6-41EC-AF19-02F178AA0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7FCF-2799-4DD6-9446-695552CD8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0720" y="553680"/>
            <a:ext cx="86392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7206-5501-4993-AE79-10B21DD96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880" y="1984320"/>
            <a:ext cx="40399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99640" y="416196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7E9A-4AB7-4AFF-A9C8-BA9254F03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40399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880" y="198432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1880" y="416196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1004-94A3-4B71-92DC-9E0F3819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1880" y="198432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99640" y="4161960"/>
            <a:ext cx="8278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1F67-D1B3-4F1C-94C2-B8865352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99640" y="1984320"/>
            <a:ext cx="82789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7000"/>
          </a:bodyPr>
          <a:p>
            <a:pPr marL="33264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12720" y="645480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45480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83360" y="645480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90885A-C4E9-4680-871C-8791EED9C4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20720" y="554040"/>
            <a:ext cx="8640720" cy="56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5.4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isenhower's Col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 Poli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40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G. Trouble in Eastern Europe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99640" y="1983960"/>
            <a:ext cx="404028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. Stalin dies in 195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. Nikita Khrushchev, SU leader in 195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. Uprising in Hung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. Soviet tanks sent in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end rebell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. Killed &gt; 30,000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ungarians fighting to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ve Warsaw p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141520" y="1984320"/>
            <a:ext cx="4040280" cy="4170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5257800" y="1981080"/>
            <a:ext cx="3886200" cy="441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40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H. Eisenhower Doctrine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99640" y="1983960"/>
            <a:ext cx="404028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end Middle East from Commu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Extended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man Doctrine and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ment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141520" y="1984320"/>
            <a:ext cx="4040280" cy="41702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5334120" y="1981080"/>
            <a:ext cx="4038480" cy="441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40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I. Spy Plane Shot Down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99640" y="1983960"/>
            <a:ext cx="828036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Khrushchev accuses the capitalist countries of starting an “arms rac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putni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aunched in 195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Khrushchev visits the US in 195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U-2 spy plan shot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 Eisenhower does not apolog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. Khrushchev calls off sum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20720" y="597960"/>
            <a:ext cx="86407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Lesson Objectives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8280360" cy="40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The students will be able to explain brinksmansh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The students will be able to discuss what happened in Iran and Guatema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The students will be able to explain the Eisenhower Doctr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40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A. 1952 Election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99640" y="1983960"/>
            <a:ext cx="404028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1952; people ready for change, Truman's policies not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Eisenhower wins election in a land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141520" y="1984320"/>
            <a:ext cx="4040280" cy="41702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5257800" y="1828800"/>
            <a:ext cx="3886200" cy="46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40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B. “More Bang for the Buck”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99640" y="19839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Strong military and strong economy=Cold War Vic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Capitalism v. Commu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Army to expensive, use atomic weap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Massive retal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Military spending c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Army size reduced, increased nuclea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eapon supp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40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C. Brinksmanship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99640" y="1983960"/>
            <a:ext cx="404028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ingness to go to the brink, or edge, or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Nuclear arms race en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mericans practice air-rai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141520" y="1984320"/>
            <a:ext cx="4040280" cy="41702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5029200" y="1828800"/>
            <a:ext cx="411480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40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D. Korean War/Taiwan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63280" y="1999800"/>
            <a:ext cx="828036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Eisenhower hints nuclear att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Armistice signed in July 195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China wants to liberate Taiw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Taiwan, ''Anti-Communist barri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Eisenhower hints nuclear att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China backs down aga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20720" y="597960"/>
            <a:ext cx="86407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E. Suez Crisis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8280360" cy="40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Keep Arab nations from following the 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Egyptian troops seize the ca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British and French troops inv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US pressure gets troops to le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Diplomatic victory for 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40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F. Covert Operations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99640" y="1983960"/>
            <a:ext cx="404028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Middle E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.Iran: PM Mohammed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ssadegh placed oil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dustry under govt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. CIA persuades shah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 Iran to replace PM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friendlier PM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41520" y="1984320"/>
            <a:ext cx="4040280" cy="40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2. Guatem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a.Leader gives land to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peasant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b.US trains army and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overthrows lead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40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3. Central Intelligence Agency</a:t>
            </a:r>
            <a:br>
              <a:rPr sz="4400"/>
            </a:b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CIA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99640" y="1983960"/>
            <a:ext cx="404028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Agency used spies to gather info abroad as well as carrying out covert actions in “unfriendly” govern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141520" y="1984320"/>
            <a:ext cx="4040280" cy="41702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5029200" y="2106720"/>
            <a:ext cx="4343400" cy="4065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7:25:42Z</dcterms:created>
  <dc:creator>Courtney Huro</dc:creator>
  <dc:description>Presentation Layout Template</dc:description>
  <dc:language>en-US</dc:language>
  <cp:lastModifiedBy/>
  <cp:revision>1</cp:revision>
  <dc:subject/>
  <dc:title>White Blue and Lightnings</dc:title>
</cp:coreProperties>
</file>